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865-F18C-44DF-BAA9-60916C03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014-B495-4BFE-BFCE-5E65D254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FAF-833E-4F75-9A25-E57B056E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542-BFFB-4755-ADB2-91364B32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3C21-A6F0-4915-BF82-6D3716C3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00B0-3206-45C4-9891-5F1FA1CF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0277-D1EE-4D97-89CF-E1574105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7C2A-7529-40A6-BC1D-93CD9536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0DE3-4C0B-4F88-8CEE-9EFC173F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0806-0D8C-47EA-B879-CB2A373C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2247-6541-41D6-93FF-9DEB6D8F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0F0-B76B-4E92-A968-2B764C3C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B283-6C51-4470-8BA6-7B9FCD78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DB12-7BF8-432C-8D9B-4DA4AA68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4580-ECE3-41B3-8821-7F79F1B7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85C6-77BC-41B0-8DC2-68A43C50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76A3-0C1C-45A3-888A-0EECC3B7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BE7C-E378-4780-B969-12DA3E91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83F3-BB18-443A-A2C9-1697650B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FEEC-5ADB-4673-86C2-CD96267C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9CD5-1C98-4D74-85C8-B297A73D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611A-D4DA-454D-A2BE-9ADA8708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3D5-915A-4775-97DD-7FC78738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C247-C718-4156-BA81-FC27CB49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95FA-183F-4F73-AEDA-66AFC06C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146A-CB92-47F0-9C59-ACF5B25B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B01C-49FD-448A-A8DF-AEC6AE1C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3C1E-92CF-4BE5-9DD8-8B5BD41F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988D-2D77-420A-972C-F8C2D341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FF4C-B47D-46F4-9BD4-3ABB3BC3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70627-6286-4E3D-A65B-188ABF9A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5DFA4-F3F4-4015-B6F5-276DA2E1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1098-3217-446D-8D7E-69BAC260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537-CCEC-4FD0-AEB7-44554419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CC04C-37BD-49E0-8596-E6116944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90E63-14FD-44FA-B6D3-4E2BC5D0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A9635-6FA5-457B-AA34-3561953A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1E0C0-24EC-4882-9D7A-034102D8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B442C-61EC-459F-977F-6A30898E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E613-9DA0-4D47-9317-BB7940EC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FB693-9BC7-4429-937C-52F7D5C5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B111C-5D36-4372-898A-E20133B4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E230-E6DF-4039-998F-9A42AC37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580F-79D5-4973-91F5-29FDFFB7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E24-ECF2-47F0-9F6A-FA8D32EC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0FFF5-8FC8-46B7-97CA-9D36E8E2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DF5EE-7E63-4891-959C-6572C6B9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80D3-6CD3-42D4-B89E-E99A722A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513A2-4600-4BA5-B698-CBDC8720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42619-949C-461B-B99B-852B207E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713C-7B29-473D-9542-686C99D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31FE-9DC0-431B-85DE-223A67A8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2D5FD-6123-4C0A-BDC0-16C6D1AD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D7C92-2AC2-4814-B1CC-45C7C23F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07924-4874-417F-8229-F10A8FD2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DA7-7C69-4F0C-AE12-1E34112D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4BBBF-320A-49DF-8411-35C6C362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DEB66-38AC-44FE-97A6-6072EF31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6CC68-7681-4F9F-BB23-29C56413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32B03-5FBB-4254-A3D2-457AE2EB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10577-6CB4-4DE9-B21F-90FE5DD1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0F4B3-C78B-4B02-9725-A50FDE5C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C523F-591A-4576-877F-C976F2BB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C0DB4-CAD2-469D-B264-A59D3F1F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B9D99-9BAF-4A0C-B5C7-08135B4D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88FBB-0F60-4538-A706-2F54BCCE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8E3-0400-4830-9CB4-B972498F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7FF1C-19E1-45EA-9632-9867032B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8689E-6D2D-4753-99AA-B3C6705B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1372-5FAC-4B64-9694-DDAB647A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50211-0697-48A9-B907-9CDC43BF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8452B-DA08-477D-83EF-A301AD8E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0FAD3-1483-4BA4-BAA0-1C0DE22D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E2603-B5A0-4B39-9A79-B3944B36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7A2B9-9D74-4F5C-9D82-40095A5E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9D05D-78E7-48AE-9909-EE7B289E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23D75-9826-4904-8FF3-12DA168C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C7C-66A5-4A67-B21F-FF0AF0FE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AF01F-085A-4875-95BE-CDAF20A0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327A1-1CA6-4B35-B654-7CDB11A7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65FC0-2D63-435D-A6A1-9FD0A940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19A71-A51C-4E83-ACCF-E251306B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C58EA-10A7-423F-AFD0-C797EDB6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A2434-9A44-4044-BF71-781CEB5A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101D2-6EAC-43AE-B7A4-4A91F57B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3794A-8D8E-40B4-ADEE-29782BE4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5A440-C744-495E-BE07-945D4484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C4E0F-B5BD-4804-AC97-C68FBE21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751-727A-4285-8B0B-E583CDAF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F7A0E-D0B1-47CE-A690-8A99B25D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E1695-190D-4D1C-A813-DD0C6C7E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5C283-4507-42A6-8EED-AAE49D4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60C01-4EA7-468B-805F-410FD526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91DFF-A25F-409F-8E3E-D4525528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53B11-7051-4DEA-8CC6-69A86B28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337EE-FB6C-4223-97AE-C38C690F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AF89-185F-41FD-A165-B640A33E9038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7FD1-3F50-416E-BB5A-45FEF3120D53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AE95-96DE-4605-B88F-5F97088E52CC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40A1-BC2E-4CEB-B04B-F3D0260C314C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F88B-21AA-487A-81E4-874372D64CE7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9127-D4FE-49F7-BB89-EA8C5DDC067B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61D0-B229-4CED-8973-2A1BD349BA0A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2409-6AD0-4ACE-9304-094366F22BFF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POWER GRID CONTROL SYSTEM USING GSM MODEM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Block Diagram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Power supply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Advantages: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ystem can be monitored and controlled from any whe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obile number can be changed at any tim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rid status will not be lost in power failure condi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3520" y="914040"/>
            <a:ext cx="8153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copes for Advancemen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system is developed for mobile reporting application only. It also can be interfaced to computer system to record and process data bas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pplication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rocess Industries, Power Gri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ence by this project we can control power grid using wireless communication system i.e., Global system for mobile communications mode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33160" y="99036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owadays there are various electronic equipment available for remote operation of grid control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owever, the main disadvantage of these systems is that they can be operated only from short ranges and also less reli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990360"/>
            <a:ext cx="81532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o overcome the above drawbacks, we are using one of the wireless communication technique i.e., GSM (Global System for Mobile communications)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is a digital cellular communications system which has rapidly gained acceptance and market share worldwid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352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development of GSM is the first step towards a true personal communication system that will allow us to communication anywhere, anytime and with anyone. 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GSM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is vastly used because of its simplicity in both transmitter and receiver design, can operate at 900 or 1800MHZ band, faster , more reliable and globally network 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is designed for seven power grid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8051 Microcontroller is the heart of the projec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GSM modem is interfaced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modem receives the messages from control mobile and sends as input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0880" y="685800"/>
            <a:ext cx="83059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microcontroller verify for authentication of the number and, if the number is authorized, grid control will be taken pla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d EEPROM is interfaced to this controller to save the grid position at every instan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grid position information will not be deleted even in power failure condition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3520" y="837720"/>
            <a:ext cx="81532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X4 keypad is interfaced to change the mobile number at any tim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6X2 LCD is interfaced to display user-required inform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n this project TRAIC is used as load controller (as a switch), MOC3021 used as a Triac driver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088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network operators have roaming facilities, user can often continue to use there mobile phones when they travel to other countries etc…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uses regulated 5v, 750mA power suppl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1404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7805 and 7812 three terminal voltage regulators are used for voltage regul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ridge type full wave rectifier is used to rectify the ac output of secondary of 230/12v step down transform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05:49:06Z</dcterms:created>
  <dc:creator/>
  <dc:description>Electrical Projects</dc:description>
  <dc:language>en-US</dc:language>
  <cp:lastModifiedBy>mahesh</cp:lastModifiedBy>
  <dcterms:modified xsi:type="dcterms:W3CDTF">2008-12-29T09:15:19Z</dcterms:modified>
  <cp:revision>0</cp:revision>
  <dc:subject>Electrical Projects</dc:subject>
  <dc:title>EEE IEEE Projects</dc:title>
</cp:coreProperties>
</file>